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DD6-ACB6-480A-85EA-E8171386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B05-042F-4DCE-808A-80F98B1E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CAB-8BD5-487B-B1A6-0F24B870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25F-869F-497E-ADB9-38EEFDF7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DDD-4F23-4B40-9799-64346FA1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314-B30E-4018-B204-7FE2662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68E-0222-43F9-A6C9-6DBBE851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995-99E5-413C-B255-642646C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DC3-5464-4011-86C4-2B3D729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8A9-9431-4DA3-AF55-166D89F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CF3-2CEC-45C4-9351-05EDD6F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FA4-DBD3-4727-A5D0-DEF1C18B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D977CC6-EB14-4A65-8F0C-BE2698EC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hyperlink" Target="http://hcls.deri.org/coi/dem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ipul.kashyap@cign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HALS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cknowledgments: Helen Chen, Eric P and Holger Stenzhorn for COI Dem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arsa Mirhaji for providing the real world clinical da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59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6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95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13000" y="626256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* Thanks to Rachel Rich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Clinical Trial Eligibility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5400" y="895320"/>
            <a:ext cx="8839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Use Case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tep-Through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440" y="1096560"/>
            <a:ext cx="89791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Textual) specification of the eligibility criteria for a given clinical t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tology-based translation of the eligibility criteria into SPARQL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lation of the SPARQL queries into database-specific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ecution of the queries at the databases –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ults contain all eligible pat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turn of a list of eligible patients to clinical trial administr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Inclusion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3840" y="895320"/>
            <a:ext cx="8880480" cy="53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47840" y="249552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56916"/>
              <a:gd name="adj5" fmla="val -89361"/>
              <a:gd name="adj6" fmla="val -1108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on in SDTM based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23120" y="4903920"/>
            <a:ext cx="1400040" cy="44748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194"/>
              <a:gd name="adj5" fmla="val -206384"/>
              <a:gd name="adj6" fmla="val -12788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TM based clinical trial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Drug Ontology Inferenc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5120" y="928800"/>
            <a:ext cx="8825040" cy="532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52600" y="476244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875"/>
              <a:gd name="adj5" fmla="val -80851"/>
              <a:gd name="adj6" fmla="val -1292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lusion in 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89920" y="4189320"/>
            <a:ext cx="1400040" cy="314280"/>
          </a:xfrm>
          <a:prstGeom prst="borderCallout2">
            <a:avLst>
              <a:gd name="adj1" fmla="val 18750"/>
              <a:gd name="adj2" fmla="val -8333"/>
              <a:gd name="adj3" fmla="val 36365"/>
              <a:gd name="adj4" fmla="val -58958"/>
              <a:gd name="adj5" fmla="val -296967"/>
              <a:gd name="adj6" fmla="val -114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43280" y="1352520"/>
            <a:ext cx="6933600" cy="3981600"/>
            <a:chOff x="1943280" y="1352520"/>
            <a:chExt cx="6933600" cy="398160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4143240" y="1352520"/>
              <a:ext cx="4733640" cy="39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flipV="1">
              <a:off x="1943280" y="3085560"/>
              <a:ext cx="1123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047760" y="2752200"/>
              <a:ext cx="10854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9441800">
            <a:off x="5185080" y="2876040"/>
            <a:ext cx="37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bclasses of “anticoagula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33200" y="919080"/>
            <a:ext cx="8829720" cy="5310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276880" y="3438360"/>
            <a:ext cx="3647880" cy="1838520"/>
          </a:xfrm>
          <a:prstGeom prst="borderCallout2">
            <a:avLst>
              <a:gd name="adj1" fmla="val 18750"/>
              <a:gd name="adj2" fmla="val -8333"/>
              <a:gd name="adj3" fmla="val 6217"/>
              <a:gd name="adj4" fmla="val -11620"/>
              <a:gd name="adj5" fmla="val -10361"/>
              <a:gd name="adj6" fmla="val -21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check all drugs that "may_treat obes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A rdfs:subClassOf ?B; rdfs:label ?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B a owl:Restrictio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onProperty :may_trea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someValuesFrom :C002875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D a :WeightLoseDrug}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Med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:M0271 a sdtm:Medication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pl:classCode </a:t>
            </a:r>
            <a:r>
              <a:rPr b="1" lang="de-DE" sz="2500" spc="-1" strike="noStrike">
                <a:solidFill>
                  <a:srgbClr val="cc0000"/>
                </a:solidFill>
                <a:latin typeface="Consolas"/>
              </a:rPr>
              <a:t>6809</a:t>
            </a: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; #metformi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ubject :P0006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dosePerAdministration [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Value 500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Unit "mg„ ]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tart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70101T00:00:00"^^xsd:dateTime 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end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8-0101T00:00:00"^^xsd:dateTime 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89400" y="1181160"/>
            <a:ext cx="93636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Criteria in SPARQL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1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spl:activeIngredient ?ingredient1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1 spl:classCode 6809 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OPTIONAL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2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spl:activeIngredient ?ingredient2 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2 spl:classCode 11289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} FILTER (!BOUND(?medication2)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2895480"/>
            <a:ext cx="1127160" cy="409680"/>
          </a:xfrm>
          <a:prstGeom prst="ellipse">
            <a:avLst/>
          </a:prstGeom>
          <a:solidFill>
            <a:srgbClr val="993366">
              <a:alpha val="50000"/>
            </a:srgbClr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1676520"/>
            <a:ext cx="93672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440" y="1371600"/>
            <a:ext cx="3067200" cy="574560"/>
            <a:chOff x="5257440" y="1371600"/>
            <a:chExt cx="3067200" cy="574560"/>
          </a:xfrm>
        </p:grpSpPr>
        <p:sp>
          <p:nvSpPr>
            <p:cNvPr id="327" name=""/>
            <p:cNvSpPr/>
            <p:nvPr/>
          </p:nvSpPr>
          <p:spPr>
            <a:xfrm>
              <a:off x="6164280" y="1371600"/>
              <a:ext cx="2160360" cy="574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for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257440" y="1646280"/>
              <a:ext cx="8571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00040"/>
            <a:ext cx="2808360" cy="1012680"/>
            <a:chOff x="5638680" y="3200040"/>
            <a:chExt cx="2808360" cy="1012680"/>
          </a:xfrm>
        </p:grpSpPr>
        <p:sp>
          <p:nvSpPr>
            <p:cNvPr id="330" name=""/>
            <p:cNvSpPr/>
            <p:nvPr/>
          </p:nvSpPr>
          <p:spPr>
            <a:xfrm>
              <a:off x="5638680" y="3709800"/>
              <a:ext cx="2808360" cy="502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nticoagul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905440" y="3200040"/>
              <a:ext cx="41904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69960" y="3103560"/>
            <a:ext cx="4727520" cy="647640"/>
          </a:xfrm>
          <a:prstGeom prst="ellipse">
            <a:avLst/>
          </a:prstGeom>
          <a:solidFill>
            <a:srgbClr val="ccecff">
              <a:alpha val="50000"/>
            </a:srgbClr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770200" y="3769920"/>
            <a:ext cx="2808360" cy="1337040"/>
            <a:chOff x="2770200" y="3769920"/>
            <a:chExt cx="2808360" cy="1337040"/>
          </a:xfrm>
        </p:grpSpPr>
        <p:sp>
          <p:nvSpPr>
            <p:cNvPr id="334" name=""/>
            <p:cNvSpPr/>
            <p:nvPr/>
          </p:nvSpPr>
          <p:spPr>
            <a:xfrm>
              <a:off x="2770200" y="4280040"/>
              <a:ext cx="2808360" cy="826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clusion Criter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036600" y="3769920"/>
              <a:ext cx="9428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SDTM to HL7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423720" y="336708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1824120"/>
            <a:ext cx="49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a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 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Administration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 =&gt;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  Administratio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6840" y="159084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62960" y="12398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Clinical Tri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84880" y="447660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HL7 to EMR Database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85920" y="175752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41920" y="1652760"/>
            <a:ext cx="496872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hl7:substanceAdministr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  hl7:SubstanceAdministra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consumable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displa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?take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activeIngredient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classCode ?ing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 ;} =&gt;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Item  Item_Medication:PatientID    ?pers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PerformedDTTM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Date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EntryName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82320" y="117324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SPARQL in 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64680" y="528624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SQL to EM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8880" y="3470400"/>
            <a:ext cx="331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Item_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Entr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ItemID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indic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 Task Force on Clinical Observations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emo Step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of Semantic 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ushing Query to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SDTM ontology to SPARQL in HL7 ont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HL7 ontology to SQL in EMR datab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640" y="2685960"/>
            <a:ext cx="1000080" cy="2305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0440" y="2162160"/>
            <a:ext cx="0" cy="3362400"/>
          </a:xfrm>
          <a:prstGeom prst="line">
            <a:avLst/>
          </a:prstGeom>
          <a:ln w="76320">
            <a:solidFill>
              <a:srgbClr val="636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0120" y="2608200"/>
            <a:ext cx="1000440" cy="230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7 DCM/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89400" y="2017800"/>
            <a:ext cx="0" cy="33624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457360"/>
            <a:ext cx="857520" cy="2095560"/>
          </a:xfrm>
          <a:prstGeom prst="flowChartMagneticDisk">
            <a:avLst/>
          </a:prstGeom>
          <a:gradFill rotWithShape="0">
            <a:gsLst>
              <a:gs pos="0">
                <a:srgbClr val="d78f1f"/>
              </a:gs>
              <a:gs pos="50000">
                <a:srgbClr val="ffffff"/>
              </a:gs>
              <a:gs pos="100000">
                <a:srgbClr val="d78f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52560" y="5067360"/>
            <a:ext cx="1857240" cy="62856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56960 h 628560"/>
              <a:gd name="textAreaBottom" fmla="*/ 471600 h 62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70640" y="5018040"/>
            <a:ext cx="2085840" cy="714600"/>
          </a:xfrm>
          <a:custGeom>
            <a:avLst/>
            <a:gdLst>
              <a:gd name="textAreaLeft" fmla="*/ 260640 w 2085840"/>
              <a:gd name="textAreaRight" fmla="*/ 1825200 w 208584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78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36960" y="4989600"/>
            <a:ext cx="1857240" cy="77148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66800" y="1898640"/>
            <a:ext cx="4562640" cy="777960"/>
          </a:xfrm>
          <a:custGeom>
            <a:avLst/>
            <a:gdLst/>
            <a:ahLst/>
            <a:rect l="l" t="t" r="r" b="b"/>
            <a:pathLst>
              <a:path w="3096" h="394">
                <a:moveTo>
                  <a:pt x="3096" y="394"/>
                </a:moveTo>
                <a:cubicBezTo>
                  <a:pt x="2649" y="213"/>
                  <a:pt x="2202" y="32"/>
                  <a:pt x="1686" y="16"/>
                </a:cubicBezTo>
                <a:cubicBezTo>
                  <a:pt x="1170" y="0"/>
                  <a:pt x="585" y="149"/>
                  <a:pt x="0" y="298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55360" y="18414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68d"/>
                </a:solidFill>
                <a:latin typeface="Times New Roman"/>
              </a:rPr>
              <a:t>List of eligibl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SDTM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dtm: &lt;http://www.sdtm.org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pl: &lt;http://www.hl7.org/v3ballot/xml/infrastructure/vocabulary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patient ?dob ?sex ?takes ?indicDate?cont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a sdtm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middleName 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dateTimeOfBirth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ex 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?code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indic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contra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11289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effectiveTime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contra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(!BOUND(?contra) &amp;&amp; ?code = 68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DTM-HL7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Tim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comitantMedic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jec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ndardizedMedicationName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: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DateTimeOfMedication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ta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} 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[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   [  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   ?start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HL7 Via SWtranformer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FIX 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 &lt;http://www.hl7.org/v3ballot/xml/infrastructure/vocabulary/vocabulary#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patient ?dob ?sex ?takes ?indicD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middleNam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dob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dministrativeGenderCodePrint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sex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Person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D918_gen0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onsumabl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C798_gen1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&gt;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ffective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ctiveIngredient ?b0035C848_gen2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848_gen2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lassCod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cod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tar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indicDat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 ?code = 6809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Tab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xsd: &lt;http://www.w3.org/2001/XMLSchema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Person: &lt;http://hospital.example/DB/Pers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ex_DE: &lt;http://hospital.example/DB/Sex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Item_Medication: &lt;http://hospital.example/DB/Item_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: &lt;http://hospital.example/DB/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_DE: &lt;http://hospital.example/DB/Medication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NDCcodes: &lt;http://hospital.example/DB/NDCcodes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Schem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    a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?ingr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?indicDate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  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Entry  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?indicItem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formedDTTM ?indicDat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r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Med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Item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Item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ysToTak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u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edDict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_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ND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NDC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Class Information in CT #8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no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tform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 secretagogu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lpha-glucosidase inhibito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a low dose combination of a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therap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si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vandia)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o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ctos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in-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yetta), alone or in combin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rticosteroi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eightloss drug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e.g.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enic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orlistat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ridi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sibutramine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cutrim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henylpropanol-amine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medication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nsteroidal anti-inflammator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drug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arfar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Coumadi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opidogre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lavix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ticoagulant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beneci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enemid, Probala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lfinpyr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nturane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uricosuri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gen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scription Information in Patient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39","131933","98630     ","GlipiZIDE-Metformin HCl 2.5-25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2.5-250        ","TABS","","MG        ","  ","15","GlipiZIDE-Metformin HCl       ","","GlipiZIDE-Metformin HCl 2.5-25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52","131946","98629     ","GlipiZIDE-Metformin HCl 2.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188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9,"2.5-500        ","TABS","","MG        ","  ","15","GlipiZIDE-Metformin HCl       ","","GlipiZIDE-Metformin HCl 2.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407","132201","98628     ","GlipiZIDE-Metformin HCl 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467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8,"5-500          ","TABS","","MG        ","  ","15","GlipiZIDE-Metformin HCl       ","","GlipiZIDE-Metformin HCl 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642","132436","C98630    ","GlipiZIDE-Metformin HCl TABS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","TABS","","          ","  ","15","GlipiZIDE-Metformin HCl       ","","GlipiZIDE-Metformin HCl TAB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52880" y="2438280"/>
            <a:ext cx="2597040" cy="3992400"/>
            <a:chOff x="4952880" y="2438280"/>
            <a:chExt cx="2597040" cy="3992400"/>
          </a:xfrm>
        </p:grpSpPr>
        <p:sp>
          <p:nvSpPr>
            <p:cNvPr id="379" name=""/>
            <p:cNvSpPr/>
            <p:nvPr/>
          </p:nvSpPr>
          <p:spPr>
            <a:xfrm>
              <a:off x="4952880" y="6062400"/>
              <a:ext cx="138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3200" y="4006800"/>
              <a:ext cx="39996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36960" y="2438280"/>
              <a:ext cx="1812960" cy="35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Ontology By Stanf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3" name="Object 2" descr=""/>
          <p:cNvPicPr/>
          <p:nvPr/>
        </p:nvPicPr>
        <p:blipFill>
          <a:blip r:embed="rId1"/>
          <a:srcRect l="0" t="0" r="-824" b="-172"/>
          <a:stretch/>
        </p:blipFill>
        <p:spPr>
          <a:xfrm>
            <a:off x="826920" y="1125360"/>
            <a:ext cx="6985080" cy="4321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755080" y="5884920"/>
            <a:ext cx="26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rom drug ontology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3203640" y="5373720"/>
            <a:ext cx="6046920" cy="1484280"/>
            <a:chOff x="3203640" y="5373720"/>
            <a:chExt cx="6046920" cy="1484280"/>
          </a:xfrm>
        </p:grpSpPr>
        <p:sp>
          <p:nvSpPr>
            <p:cNvPr id="386" name=""/>
            <p:cNvSpPr/>
            <p:nvPr/>
          </p:nvSpPr>
          <p:spPr>
            <a:xfrm>
              <a:off x="3203640" y="5373720"/>
              <a:ext cx="5940360" cy="1484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70400" y="5373720"/>
              <a:ext cx="57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:54868079500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2.5-25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4600" y="5805360"/>
              <a:ext cx="55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51880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5-50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0000" y="6237360"/>
              <a:ext cx="455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079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TA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50920" y="1557360"/>
            <a:ext cx="3159000" cy="4464000"/>
            <a:chOff x="250920" y="1557360"/>
            <a:chExt cx="3159000" cy="4464000"/>
          </a:xfrm>
        </p:grpSpPr>
        <p:sp>
          <p:nvSpPr>
            <p:cNvPr id="391" name=""/>
            <p:cNvSpPr/>
            <p:nvPr/>
          </p:nvSpPr>
          <p:spPr>
            <a:xfrm>
              <a:off x="250920" y="1557360"/>
              <a:ext cx="3097080" cy="4464000"/>
            </a:xfrm>
            <a:prstGeom prst="ellipse">
              <a:avLst/>
            </a:prstGeom>
            <a:solidFill>
              <a:srgbClr val="000099">
                <a:alpha val="16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2b2b2"/>
                  </a:solidFill>
                  <a:latin typeface="Arial"/>
                </a:rPr>
                <a:t>C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680" y="3268800"/>
              <a:ext cx="128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formi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400" y="3668760"/>
              <a:ext cx="22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ulin secretago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8120" y="4309920"/>
              <a:ext cx="29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pha-glucosidase inhibi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1240" y="474192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ticoagul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1240" y="517356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icosuri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0280" y="3949560"/>
              <a:ext cx="31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steroidal anti-inflamm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87180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8780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1125360"/>
            <a:ext cx="1942920" cy="64800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16720" y="3716280"/>
            <a:ext cx="2376360" cy="1513080"/>
            <a:chOff x="6516720" y="3716280"/>
            <a:chExt cx="2376360" cy="1513080"/>
          </a:xfrm>
        </p:grpSpPr>
        <p:sp>
          <p:nvSpPr>
            <p:cNvPr id="402" name=""/>
            <p:cNvSpPr/>
            <p:nvPr/>
          </p:nvSpPr>
          <p:spPr>
            <a:xfrm>
              <a:off x="6516720" y="3716280"/>
              <a:ext cx="2376360" cy="151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1640" y="4221000"/>
              <a:ext cx="187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drugBank: DB003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RxNORM: 68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076720" y="4365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255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5084640"/>
            <a:ext cx="504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apping Between CT and Patient Rec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396240" y="947880"/>
            <a:ext cx="3682440" cy="3983040"/>
            <a:chOff x="3396240" y="947880"/>
            <a:chExt cx="3682440" cy="398304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3511440" y="4035600"/>
              <a:ext cx="3168720" cy="89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3396240" y="947880"/>
              <a:ext cx="3682440" cy="3816360"/>
              <a:chOff x="3396240" y="947880"/>
              <a:chExt cx="3682440" cy="3816360"/>
            </a:xfrm>
          </p:grpSpPr>
          <p:sp>
            <p:nvSpPr>
              <p:cNvPr id="410" name=""/>
              <p:cNvSpPr/>
              <p:nvPr/>
            </p:nvSpPr>
            <p:spPr>
              <a:xfrm>
                <a:off x="3530520" y="947880"/>
                <a:ext cx="2449440" cy="3816360"/>
              </a:xfrm>
              <a:prstGeom prst="ellipse">
                <a:avLst/>
              </a:prstGeom>
              <a:solidFill>
                <a:srgbClr val="777777">
                  <a:alpha val="16000"/>
                </a:srgbClr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Arial"/>
                  </a:rPr>
                  <a:t>Drug Ont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2680" y="2808360"/>
                <a:ext cx="3456000" cy="8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536280" y="2287440"/>
                <a:ext cx="21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chanismOf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96240" y="3684600"/>
                <a:ext cx="187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neralDrugTyp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750000" y="2795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1299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63920" y="4246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665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75160" y="3713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503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925000">
            <a:off x="6372000" y="3428640"/>
            <a:ext cx="1512720" cy="720720"/>
          </a:xfrm>
          <a:custGeom>
            <a:avLst/>
            <a:gdLst>
              <a:gd name="textAreaLeft" fmla="*/ 264600 w 1512720"/>
              <a:gd name="textAreaRight" fmla="*/ 1096920 w 1512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W3C Task Force on Clinical Observations Interoperability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a collaboration between Providers, Pharma and other HCLS stakeholders for re-use of EMR data in Clinical Re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the key stakeholders and respective value pro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reate consensus on a common use case, needs statements and functional requi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Develop Proofs of Concept by implementing key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1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Healthcar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Partners, Cleveland Clinic, Intermountain Healthcare, Mayo Clinic, VA/Regenstri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Pharmaceutical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Eli Lilly, Astra Zeneca, Novartis, Pfizer, Bristol Myers Squi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W3C, CDISC, HL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dvantages of Semantic Web Technologi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lug and play use of multiple ontologies and information models based on industry standards (e.g., CDISC, HL7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access multiple points of view through declarative specification of mapping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CDISC/SDTM and HL7 based inform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terminologies such as NDC, RxNorm and Stanford’s Drug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map across terminologies via compositional definition of concepts, e.g., Obesity dru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Late binding of coding systems and database sch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Transform SPARQL to SQL in real time, reflecting real time discovery and integration nee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icit Feedback and Participation from the broader Biomedical Informatics commun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hcls.deri.org/coi/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 proof of concepts for a wider variety of use cases in collaboration with various participants in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e Drug Event Reporting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-vigi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What is Translational Medicine (TM)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666880"/>
            <a:ext cx="1676520" cy="16002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057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2578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43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3080" y="5334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6280" y="541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760" y="472428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2860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34960" y="1788840"/>
            <a:ext cx="6274080" cy="4370040"/>
            <a:chOff x="1434960" y="1788840"/>
            <a:chExt cx="6274080" cy="4370040"/>
          </a:xfrm>
        </p:grpSpPr>
        <p:sp>
          <p:nvSpPr>
            <p:cNvPr id="57" name="_s757773"/>
            <p:cNvSpPr/>
            <p:nvPr/>
          </p:nvSpPr>
          <p:spPr>
            <a:xfrm>
              <a:off x="3724200" y="2382840"/>
              <a:ext cx="1697040" cy="1697040"/>
            </a:xfrm>
            <a:prstGeom prst="ellipse">
              <a:avLst/>
            </a:pr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57774"/>
            <p:cNvSpPr/>
            <p:nvPr/>
          </p:nvSpPr>
          <p:spPr>
            <a:xfrm>
              <a:off x="3724200" y="17888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57775"/>
            <p:cNvSpPr/>
            <p:nvPr/>
          </p:nvSpPr>
          <p:spPr>
            <a:xfrm>
              <a:off x="4282920" y="3350880"/>
              <a:ext cx="1697040" cy="1697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757776"/>
            <p:cNvSpPr/>
            <p:nvPr/>
          </p:nvSpPr>
          <p:spPr>
            <a:xfrm>
              <a:off x="601200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57777"/>
            <p:cNvSpPr/>
            <p:nvPr/>
          </p:nvSpPr>
          <p:spPr>
            <a:xfrm>
              <a:off x="3165480" y="3350880"/>
              <a:ext cx="1697040" cy="1697040"/>
            </a:xfrm>
            <a:prstGeom prst="ellipse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57778"/>
            <p:cNvSpPr/>
            <p:nvPr/>
          </p:nvSpPr>
          <p:spPr>
            <a:xfrm>
              <a:off x="143496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1080" y="5638680"/>
              <a:ext cx="12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02960" y="2514600"/>
            <a:ext cx="129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29714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3240" y="222084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s and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763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162920" y="2895480"/>
            <a:ext cx="1752480" cy="609840"/>
            <a:chOff x="7162920" y="2895480"/>
            <a:chExt cx="1752480" cy="609840"/>
          </a:xfrm>
        </p:grpSpPr>
        <p:sp>
          <p:nvSpPr>
            <p:cNvPr id="72" name=""/>
            <p:cNvSpPr/>
            <p:nvPr/>
          </p:nvSpPr>
          <p:spPr>
            <a:xfrm>
              <a:off x="7313400" y="2971800"/>
              <a:ext cx="141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 and Co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2920" y="289548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ome interesting developments …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yors are performing analyses to en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s to better identify health issues and optimize 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s/members to make better medical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/utilization optimization and claim adjud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rs are performing clinical studies and revie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valuate the quality and consistency of clinic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erform clinical research and evaluate clinica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armaceuticals are perform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secondary uses of healthcare data, e.g., use of EMRs for clinic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1840" y="5105520"/>
            <a:ext cx="88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ed for a bi-directional EMR – CTMS Link: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152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155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082000</cp:lastModifiedBy>
  <dcterms:modified xsi:type="dcterms:W3CDTF">2009-02-24T13:51:24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